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EF4-AE33-4DCA-AE6D-0FFDCBFB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F65-3667-40E1-86F2-BD02B9B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CC9-6A4F-4992-82A8-A000819A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D93-46DE-48F3-92E7-2EFB5038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D4DE-38B4-4EEE-8E96-441146C6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1368-2AD6-43D5-A491-754D11D0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9D28-4A7D-4A64-B1CA-923B7942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AC15-CD44-49B3-9855-8A19CCD9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E428-EFC5-46E7-A7C7-192D3619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6D5-E1C0-4827-A3D7-2EB8F91A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359E-07DF-4B42-A347-38857D66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F51-23D7-46B2-936C-F2D0BDE3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810F-A16F-421A-9893-AF5460B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D9FC-0599-4FD9-9007-25E4BB7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69F9-C1F2-43FD-81E3-AB1749FD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16C2-4B97-46B6-B144-B0EE0899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0B97-C84D-4686-8639-044E550B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CBD0B-D0E7-4DEA-B4FF-F0862B55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8B8E-7E46-4F40-85F9-4A38B925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4CB0-1E62-4490-A886-725A31AB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C943F-8C0F-4783-A267-C4BD396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6FFE-FDD6-44F3-AC61-EF25A540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F11-9680-4F72-9463-3A449228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A335-B0AF-4C35-ADAB-C3562E36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EA0A-90C8-4029-8DD9-53ADCEA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B5FE-E258-4B68-8396-D096BC39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3FC1-8CD7-47D1-A558-687D5D0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AE1C-653F-412E-9059-FB4A6226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C547-4876-49BC-A55B-61C738B8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D478-376A-462C-8D7D-161FFAF5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C45-EB5A-40D7-B4A1-9B67974E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A93-8983-4807-9CAE-7ACEEABB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812-E5A3-4EBF-9636-8A40668C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6EE-7AD2-47E9-9A3C-E8765DB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827-579C-46E3-97CB-BE8D4E6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A21-31E2-4222-A0BD-E0C16AF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4212-2105-4026-9689-278590D2F27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655C-36C0-4E17-A41C-60B67AD3354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2FF2-2DDD-4C98-A639-B9252D9045F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7B52-6F7A-485E-8ABF-98BD0EDF6BB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19FF-C8AA-4CBC-802D-CA3F6D592D7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3EBE-F58E-4BB3-8E03-D6FD677C4CA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39680" y="304920"/>
            <a:ext cx="854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b400"/>
                </a:solidFill>
                <a:latin typeface="Arial"/>
              </a:rPr>
              <a:t>Vocabulary to Kn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5800" y="16765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E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1, page 5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9680" y="304920"/>
            <a:ext cx="854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b400"/>
                </a:solidFill>
                <a:latin typeface="Arial"/>
              </a:rPr>
              <a:t>Categories of Asse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914400" y="1828800"/>
            <a:ext cx="70866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Current Asse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xamples?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Plant Asse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xamples?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4400" y="228240"/>
            <a:ext cx="80424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b400"/>
                </a:solidFill>
                <a:latin typeface="News Gothic MT"/>
              </a:rPr>
              <a:t>RECORDING THE BUYING OF A PLANT ASSET</a:t>
            </a:r>
            <a:endParaRPr b="0" lang="en-US" sz="2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, 2011. Paid cash for a display case, $1,250.00. Check No.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52280" y="17524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422928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52280" y="287640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Equip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27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136" name="Group 24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137" name="Text Box 10"/>
              <p:cNvSpPr/>
              <p:nvPr/>
            </p:nvSpPr>
            <p:spPr>
              <a:xfrm>
                <a:off x="6724080" y="35812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5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141" name="Text Box 14"/>
              <p:cNvSpPr/>
              <p:nvPr/>
            </p:nvSpPr>
            <p:spPr>
              <a:xfrm>
                <a:off x="6140160" y="1523880"/>
                <a:ext cx="187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ore Equip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Text Box 17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56164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5724000" y="2590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5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1"/>
          <p:cNvSpPr/>
          <p:nvPr/>
        </p:nvSpPr>
        <p:spPr>
          <a:xfrm flipV="1">
            <a:off x="7679520" y="487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7400160" y="462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5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1, page 5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D:\C21 PowerPoint\Multi_Journal\art for blue\Ch21\Ch21-01a.jpg"/>
          <p:cNvPicPr/>
          <p:nvPr/>
        </p:nvPicPr>
        <p:blipFill>
          <a:blip r:embed="rId2"/>
          <a:srcRect l="0" t="0" r="0" b="55229"/>
          <a:stretch/>
        </p:blipFill>
        <p:spPr>
          <a:xfrm>
            <a:off x="457200" y="1143000"/>
            <a:ext cx="7620120" cy="3840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2"/>
          <p:cNvSpPr/>
          <p:nvPr/>
        </p:nvSpPr>
        <p:spPr>
          <a:xfrm>
            <a:off x="514440" y="37180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the Plant As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c7c9f"/>
                </a:solidFill>
                <a:latin typeface="News Gothic MT"/>
              </a:rPr>
              <a:t>RECORDING THE BUYING OF A PLANT ASSET</a:t>
            </a:r>
            <a:endParaRPr b="0" lang="en-US" sz="2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4479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4724280" y="2209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14440" y="437832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14440" y="474192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4"/>
          <p:cNvGrpSpPr/>
          <p:nvPr/>
        </p:nvGrpSpPr>
        <p:grpSpPr>
          <a:xfrm>
            <a:off x="4343400" y="2286000"/>
            <a:ext cx="838080" cy="2362320"/>
            <a:chOff x="4343400" y="2286000"/>
            <a:chExt cx="838080" cy="2362320"/>
          </a:xfrm>
        </p:grpSpPr>
        <p:sp>
          <p:nvSpPr>
            <p:cNvPr id="161" name="Line 13"/>
            <p:cNvSpPr/>
            <p:nvPr/>
          </p:nvSpPr>
          <p:spPr>
            <a:xfrm>
              <a:off x="4343400" y="2286000"/>
              <a:ext cx="838080" cy="2362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8"/>
            <p:cNvSpPr/>
            <p:nvPr/>
          </p:nvSpPr>
          <p:spPr>
            <a:xfrm>
              <a:off x="4343400" y="28195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92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15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1, page 5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39680" y="304920"/>
            <a:ext cx="854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b400"/>
                </a:solidFill>
                <a:latin typeface="Arial"/>
              </a:rPr>
              <a:t>Property and Property Tax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914400" y="1447920"/>
            <a:ext cx="70866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Real Property (Real Estat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and and anything attached to 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Personal Proper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ything not considered Real Propert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Assessed Val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value of an asset determined by tax authorities (Assessor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9"/>
          <p:cNvGrpSpPr/>
          <p:nvPr/>
        </p:nvGrpSpPr>
        <p:grpSpPr>
          <a:xfrm>
            <a:off x="457200" y="1838160"/>
            <a:ext cx="8153640" cy="858600"/>
            <a:chOff x="457200" y="1838160"/>
            <a:chExt cx="8153640" cy="858600"/>
          </a:xfrm>
        </p:grpSpPr>
        <p:sp>
          <p:nvSpPr>
            <p:cNvPr id="167" name="Text Box 22"/>
            <p:cNvSpPr/>
            <p:nvPr/>
          </p:nvSpPr>
          <p:spPr>
            <a:xfrm>
              <a:off x="1258920" y="1942920"/>
              <a:ext cx="7351920" cy="703800"/>
            </a:xfrm>
            <a:prstGeom prst="rect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915840"/>
                  <a:tab algn="ctr" pos="2049480"/>
                  <a:tab algn="ctr" pos="3198960"/>
                  <a:tab algn="ctr" pos="4349880"/>
                  <a:tab algn="ctr" pos="6002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essed Valu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x Rat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ual Property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2049480"/>
                  <a:tab algn="ctr" pos="3198960"/>
                  <a:tab algn="ctr" pos="4349880"/>
                  <a:tab algn="ctr" pos="6002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Group 23"/>
            <p:cNvGrpSpPr/>
            <p:nvPr/>
          </p:nvGrpSpPr>
          <p:grpSpPr>
            <a:xfrm>
              <a:off x="457200" y="1838160"/>
              <a:ext cx="858600" cy="858600"/>
              <a:chOff x="457200" y="1838160"/>
              <a:chExt cx="858600" cy="858600"/>
            </a:xfrm>
          </p:grpSpPr>
          <p:sp>
            <p:nvSpPr>
              <p:cNvPr id="169" name="Text Box 24"/>
              <p:cNvSpPr/>
              <p:nvPr/>
            </p:nvSpPr>
            <p:spPr>
              <a:xfrm>
                <a:off x="457200" y="183816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25"/>
              <p:cNvSpPr/>
              <p:nvPr/>
            </p:nvSpPr>
            <p:spPr>
              <a:xfrm>
                <a:off x="914400" y="183816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26"/>
              <p:cNvSpPr/>
              <p:nvPr/>
            </p:nvSpPr>
            <p:spPr>
              <a:xfrm>
                <a:off x="457200" y="229824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27"/>
              <p:cNvSpPr/>
              <p:nvPr/>
            </p:nvSpPr>
            <p:spPr>
              <a:xfrm>
                <a:off x="914400" y="229680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CALCULATING AND PAYING PROPERTY TAX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4" name="Picture 4" descr="D:\C21 PowerPoint\Multi_Journal\art for blue\Ch21\Ch21-01b.jpg"/>
          <p:cNvPicPr/>
          <p:nvPr/>
        </p:nvPicPr>
        <p:blipFill>
          <a:blip r:embed="rId2"/>
          <a:srcRect l="0" t="0" r="0" b="87722"/>
          <a:stretch/>
        </p:blipFill>
        <p:spPr>
          <a:xfrm>
            <a:off x="457200" y="5081760"/>
            <a:ext cx="7313760" cy="1425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1. Harrison Manufacturing paid cash for property tax, $840.00. Check No. 18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33"/>
          <p:cNvGrpSpPr/>
          <p:nvPr/>
        </p:nvGrpSpPr>
        <p:grpSpPr>
          <a:xfrm>
            <a:off x="455760" y="3154320"/>
            <a:ext cx="7011720" cy="1828800"/>
            <a:chOff x="455760" y="3154320"/>
            <a:chExt cx="7011720" cy="1828800"/>
          </a:xfrm>
        </p:grpSpPr>
        <p:grpSp>
          <p:nvGrpSpPr>
            <p:cNvPr id="177" name="Group 31"/>
            <p:cNvGrpSpPr/>
            <p:nvPr/>
          </p:nvGrpSpPr>
          <p:grpSpPr>
            <a:xfrm>
              <a:off x="4495680" y="3154320"/>
              <a:ext cx="2971800" cy="1824120"/>
              <a:chOff x="4495680" y="3154320"/>
              <a:chExt cx="2971800" cy="1824120"/>
            </a:xfrm>
          </p:grpSpPr>
          <p:sp>
            <p:nvSpPr>
              <p:cNvPr id="178" name="Text Box 8"/>
              <p:cNvSpPr/>
              <p:nvPr/>
            </p:nvSpPr>
            <p:spPr>
              <a:xfrm>
                <a:off x="5581080" y="31543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9"/>
              <p:cNvSpPr/>
              <p:nvPr/>
            </p:nvSpPr>
            <p:spPr>
              <a:xfrm>
                <a:off x="4495680" y="353556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10"/>
              <p:cNvSpPr/>
              <p:nvPr/>
            </p:nvSpPr>
            <p:spPr>
              <a:xfrm>
                <a:off x="5943600" y="353556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32"/>
            <p:cNvGrpSpPr/>
            <p:nvPr/>
          </p:nvGrpSpPr>
          <p:grpSpPr>
            <a:xfrm>
              <a:off x="455760" y="3154320"/>
              <a:ext cx="2971800" cy="1828800"/>
              <a:chOff x="455760" y="3154320"/>
              <a:chExt cx="2971800" cy="1828800"/>
            </a:xfrm>
          </p:grpSpPr>
          <p:sp>
            <p:nvSpPr>
              <p:cNvPr id="182" name="Text Box 12"/>
              <p:cNvSpPr/>
              <p:nvPr/>
            </p:nvSpPr>
            <p:spPr>
              <a:xfrm>
                <a:off x="681840" y="3154320"/>
                <a:ext cx="243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perty Tax Expen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3"/>
              <p:cNvSpPr/>
              <p:nvPr/>
            </p:nvSpPr>
            <p:spPr>
              <a:xfrm>
                <a:off x="455760" y="353556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4"/>
              <p:cNvSpPr/>
              <p:nvPr/>
            </p:nvSpPr>
            <p:spPr>
              <a:xfrm>
                <a:off x="1903320" y="354024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Text Box 15"/>
          <p:cNvSpPr/>
          <p:nvPr/>
        </p:nvSpPr>
        <p:spPr>
          <a:xfrm>
            <a:off x="379800" y="36878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418640" y="365112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853560" y="447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635760" y="4221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9"/>
          <p:cNvSpPr/>
          <p:nvPr/>
        </p:nvSpPr>
        <p:spPr>
          <a:xfrm flipV="1">
            <a:off x="6536520" y="444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6352560" y="41990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1249200" y="2239920"/>
            <a:ext cx="659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2049480"/>
                <a:tab algn="ctr" pos="3198960"/>
                <a:tab algn="ctr" pos="4349880"/>
                <a:tab algn="ctr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0,0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84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7341120" y="64303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1, page 5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6:11:47Z</dcterms:created>
  <dc:creator>Mary Colleen McLaughlin</dc:creator>
  <dc:description/>
  <dc:language>en-US</dc:language>
  <cp:lastModifiedBy>David Combs</cp:lastModifiedBy>
  <dcterms:modified xsi:type="dcterms:W3CDTF">2011-10-17T18:38:38Z</dcterms:modified>
  <cp:revision>64</cp:revision>
  <dc:subject/>
  <dc:title>ADJUSTING ENTRY FOR SUPPLIES</dc:title>
</cp:coreProperties>
</file>